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276A-4096-4EB3-BA9D-BF1AB4228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45F7-F082-4541-ACFC-863F6C576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385B-4785-49EB-8AFE-E71804274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7FDD-7B38-46F4-B779-427CB05FD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B243B-4C07-4FD6-BF0C-C4F3063FE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A502F-5ED4-4199-8EE8-1BE1DDE4D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FE21A-9108-47C7-BD1D-39F20BFDA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098B9-B5C2-49BD-921A-7F91B792F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0DF2A-9031-49D8-BCF2-5754BD725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E8A84-78E9-4220-ACD7-A1690D530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3645C-BDDA-4245-83DC-EA0A1219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0AAA-4717-41B7-AFE4-670A0D53F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37541-B425-4A47-8061-EA248E9C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49272-96A9-4240-AE41-45A7CB78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B100C-BDD7-471E-AF39-3A43938AE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99051-55C2-4A89-99F0-F88B04ADD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53DA0-2818-4AE4-AEF0-175FEB096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F6B7E-E558-478B-AC65-0E9EB88AE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FAAB5-826D-4703-8E2E-3E4799BD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91AE6-3381-4DEA-8AA5-0F20C930E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67538-EA36-4861-93FD-D4C57C27D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25B69-10E1-4DEA-AF38-E8635023F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A05C-C7D0-47A5-AD1B-02207E2A8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675A0-F349-4F97-9339-46B164607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785BB-4EBF-476D-81DF-641B2EC9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65D45-1D25-48C1-BEB1-5EB01345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8251E-23D2-41D4-8B54-E481C7A6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CB012-9F9D-4CF4-AA74-E5079B390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52841-DA26-49D9-93F6-6854648B0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939D6-1C3E-4C26-AA59-EB20687F9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BA38C-1B2F-43EF-98C1-59221C982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1D43C-2CC6-4052-975A-CE7A1A821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B533E-4C78-41AA-8E67-FD05E19E1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F82A-A364-4AA8-9D96-1FBEA4EF4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ED8AF-C530-4CCF-972D-326022499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CF662-8372-4588-99A3-51DE239BD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9A7BA-26DA-44EA-8A0A-1FD2136A7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E39E6-034E-400B-B7CA-36996EB0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8E96A-A306-400F-8E9A-201DFF14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45F51-8F57-4B81-B58E-EA6868E2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E1A6F-AB94-4D62-AA5F-502A73ABB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2D665-E72F-49CA-AB04-DDC4A7C94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0FDE5-A09A-4A8C-A95A-D20027BB4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7443-8D6A-4F93-8C7E-36EC40312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B5F2-399A-4093-969F-2C9F87974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2EE1-3487-4CEB-97A2-1DCCACA2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7805-FADA-4B51-A883-533FA297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3F27-8BE8-4BD9-899A-079AF45D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0AB01-6B81-4FF5-9FEB-93898AF7AE5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F0A19-B851-4D71-867C-F9F523D1FF7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6CD85-8C22-4809-92F7-E70BF95AB19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14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14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14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10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ftr" idx="11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sldNum" idx="12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21C03-5DC3-425F-9432-ACEB4F7D0C2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7 ГОД И ПЛАНОВЫЙ ПЕРИОД 2018-2019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 </a:t>
            </a:r>
            <a:br>
              <a:rPr sz="1000"/>
            </a:br>
            <a:r>
              <a:rPr b="0" lang="ru-RU" sz="1300" spc="-1" strike="noStrike">
                <a:solidFill>
                  <a:srgbClr val="006666"/>
                </a:solidFill>
                <a:latin typeface="Times New Roman"/>
              </a:rPr>
              <a:t>(решение Думы Дальнереченского городского округа от 16.12.2016 № № 88</a:t>
            </a:r>
            <a:br>
              <a:rPr sz="1300"/>
            </a:br>
            <a:r>
              <a:rPr b="0" lang="ru-RU" sz="1300" spc="-1" strike="noStrike">
                <a:solidFill>
                  <a:srgbClr val="006666"/>
                </a:solidFill>
                <a:latin typeface="Times New Roman"/>
              </a:rPr>
              <a:t>"О  бюджете Дальнереченского городского округа на 2017 год и плановый период 2018-2019 г.г.«)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701640" y="990720"/>
          <a:ext cx="7777080" cy="547524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263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6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43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2,2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9,33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9,2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2,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8,2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6,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3,1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3,1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4,0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9,1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7,4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8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0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3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5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8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1,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8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0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7 ГОД  </a:t>
            </a:r>
            <a:br>
              <a:rPr sz="1500"/>
            </a:br>
            <a:r>
              <a:rPr b="1" lang="en-US" sz="1500" spc="-1" strike="noStrike">
                <a:solidFill>
                  <a:srgbClr val="006666"/>
                </a:solidFill>
                <a:latin typeface="Arial"/>
              </a:rPr>
              <a:t>512,88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7 год – 335,65 млн.руб. (местный бюджет – 126,93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08,72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52,02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7 год – 8,8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– 9,04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898920" y="843480"/>
            <a:ext cx="760716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– 1,87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6,87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– 1,2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249200" y="1879560"/>
          <a:ext cx="7318440" cy="46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9200" y="1879560"/>
                    <a:ext cx="731844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959040" y="319320"/>
            <a:ext cx="7638120" cy="7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Times New Roman"/>
              </a:rPr>
              <a:t>РАСХОДЫ НА НЕПРОГРАММНЫЕ НАПРАВЛЕНИЯ </a:t>
            </a:r>
            <a:br>
              <a:rPr sz="1600"/>
            </a:br>
            <a:r>
              <a:rPr b="1" lang="en-US" sz="1600" spc="-1" strike="noStrike">
                <a:solidFill>
                  <a:srgbClr val="06072e"/>
                </a:solidFill>
                <a:latin typeface="Times New Roman"/>
              </a:rPr>
              <a:t>ДЕЯТЕЛЬНОСТИ В 2017 ГОДУ</a:t>
            </a:r>
            <a:r>
              <a:rPr b="0" lang="en-US" sz="1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878040" y="1409760"/>
          <a:ext cx="759132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1409760"/>
                    <a:ext cx="75913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(млн.руб.)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2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0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5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,9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35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7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3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7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2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5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541440" y="990720"/>
          <a:ext cx="8151840" cy="566244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351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9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7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6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9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14360" y="990720"/>
          <a:ext cx="8567640" cy="575316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8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6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3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3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на поддержку мер по обеспечению сбалансированности бюдже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03480" y="277920"/>
            <a:ext cx="751824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СТРУКТУРА ДОХОДОВ БЮДЖЕТА ДАЛЬНЕРЕЧЕНСКОГО ГОРОДСКОГО ОКРУГА НА 2017 ГОД (49</a:t>
            </a: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9,33</a:t>
            </a: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 млн.руб.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СТРУКТУРА СОБСТВЕННЫХ (НАЛОГОВЫХ И НЕНАЛОГОВЫХ) ДОХОДОВ В 2017 ГОДУ (2</a:t>
            </a: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83</a:t>
            </a: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,21 млн.руб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52520" y="1685880"/>
          <a:ext cx="8118360" cy="471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1685880"/>
                    <a:ext cx="8118360" cy="47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0033"/>
                </a:solidFill>
                <a:latin typeface="Times New Roman"/>
              </a:rPr>
              <a:t>СРАВНЕНИЕ ОБЪЕМОВ МЕЖБЮДЖЕТНЫХ ТРАНСФЕРТОВ 2016 И 2017-2019 ГОДОВ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5240160" y="1141560"/>
          <a:ext cx="3470400" cy="51768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</a:tr>
              <a:tr h="100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01320" y="277560"/>
            <a:ext cx="75200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7 ГОДУ (21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,32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30000" y="270000"/>
            <a:ext cx="81025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48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6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9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3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1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360" y="277920"/>
            <a:ext cx="77310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7 ГОД (5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12,88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557280" y="1278000"/>
          <a:ext cx="8200800" cy="52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278000"/>
                    <a:ext cx="8200800" cy="52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7-01-26T07:57:55Z</dcterms:modified>
  <cp:revision>114</cp:revision>
  <dc:subject/>
  <dc:title>Структура собственных доходов на 2016 год бюджета Дальнереченского городского округа</dc:title>
</cp:coreProperties>
</file>